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52ED-9F27-4990-8642-7C4F26482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70B2-E2CC-4DAA-8B7E-CC92A6AF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BA7D7-7B3D-4E7D-AA3D-3230FC48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FFF885-8180-4D83-BB62-14402DFC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5AA34-5BA5-4D62-BFAF-201F2AD5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0BCF8-00E9-4025-9E43-F313F65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3A11FD-C82F-4804-94D8-8120DBB8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3E142-5394-4166-9DED-CD67997D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BA249-FC71-4353-BEA4-37E6F53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22C60D-00E1-4811-B859-D88468D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2943A-2665-4DD9-88E7-5FDA17B86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B2E7-9B40-4BD2-B850-921CA2A13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5F79-C984-49F8-B0F7-CE08AB9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6630-E4AB-4937-AA16-BE5CB010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9C4FC-6DBE-40E7-8947-04A8CF4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F554E-EB01-4BD4-8939-8BDF1D3B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361F-8C38-4F2A-B35A-1EABC872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656E-3D0F-49D2-BEAE-08CBBE97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CB0C-68A5-4C4C-8E09-A0CFA58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B97B-DDDA-459C-BD72-5A11E66A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BA95-4CD2-47D5-95C2-FE91243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91EA-9586-459A-A08B-1FE8E37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48AF-F45A-4A41-9B48-C5E5037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3A3F-ADC0-45AC-844A-0FB23AAB7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8057-1C19-442D-9346-E984B196A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6D175-C488-439A-BC58-87D08CA95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B72CB-07DC-4E81-A501-4A3F6CE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50489-9BA3-4337-A606-0C8FC99C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ECE11-1DC2-4B70-BD5F-58FB29C0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BCE98-6D7B-4C79-8D0B-E4A2642C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8A8F8-EE2E-4608-9254-B28B713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F1047-1A31-4B18-BD7A-5EE4646C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85498-DE9B-4387-9357-9BC3D85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83B1D-91E1-4795-9CD3-C0D81B0D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5C933-A3BD-4B64-91FE-89504A2F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7BDD2-2AB4-4A06-980E-03BBA9A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5D76E5-68DB-4563-84EF-5F6620E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BFA8C-E087-4539-A4B3-FC474DCA4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1F36F-9C5F-45D0-962B-282039F64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9CBD6-BE12-4663-96E7-368172A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C5DA2-A467-4557-ABD0-64B19E1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E13FF-D6AC-4D00-93D1-064E20A8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9C3EB-B987-4366-AA4D-E5EC6B50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81D44-F3C5-4E30-9B56-486C2239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79DD0-A73E-4FD4-8F20-9754CCB5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79CC2-CED2-4A8F-812E-5C8CDE92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D78B3-82AD-490C-AFCD-8054DEF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8CA61-2854-46D9-8239-5C633D43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93569-EEC4-4B65-A4EC-78E1DDEC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4C9D7-CA13-45C6-BE8C-1EB1936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F0163-81B3-4327-91EC-3DDABCB34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2C7D-4D83-4657-9420-26D8541B2D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186F8-FD11-4B35-94DD-3624F0E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9E253-62BE-4551-8DE3-D09F3E9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42E30-6BB3-410C-BEBD-96D3777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418A3-0B8A-48A4-85AF-761536D7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9FEC3-6BD7-4996-B158-9EFE9160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DCE07-785B-43E3-B10D-5FDA1F18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C159-AA2B-4A09-A6C3-4D65D3C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3108-316C-4A0B-B10A-0A464E1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DFEA-CC86-4512-AE61-BF470A15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3FEA5-2340-4A25-8B7D-E3C8743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202EF-F5FB-45AE-987B-7AAFEE3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F4EFA-E483-4C2F-92D8-1E2AB4349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A5A2A-9B07-4F98-8AFA-297CA80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880B-DBA6-4C08-8111-00561E4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55380-8B70-442A-B45A-3E2DE16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6399-C7E0-4D72-B163-1BBD5EC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9A5D8-FD1A-41B1-B192-5DD5B747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86C1-5412-438C-857F-EF9A643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61E35-75F1-4989-95DB-F9D2AB4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EFD78-35AF-4C43-9EE8-77956C4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506B7-BCF1-4B5D-842C-592A463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B636A-F443-40A5-A1FD-5310340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9AA8C-196C-4C0E-8F0C-97E98D8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FD953-2733-41BD-BAFE-ECC9CD20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04339-FF25-4D91-9224-AE4B7E2F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06E1-3C13-4848-94A3-7E37744E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493D-8B84-44D9-A619-9D9B401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EA60-2B51-4887-8AB9-88287ADB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3149-8928-450B-85C1-F074E78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D2A3F-0022-41CB-A782-56C6FA8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FE471-A26B-4673-BB29-133A86CC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0875-70C8-4845-A373-0041D4B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78263-CD98-4647-9098-BFB10A4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3AB3F-EBFD-4859-A82E-F45AE2E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0FC96-D97D-49A2-9FF1-EE1DA659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BB9CD-129E-4974-A4D3-92B49D68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EE8C-8DE7-4F23-BB3A-13B52617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8B7CD-8B07-4DC0-B91A-739EDDC0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86389-E877-40E8-A68E-3E97A99F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32F9-9CC1-45CD-A49C-7300A646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B18E8-FDFF-4749-9106-80BDE38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455E3-FB03-4DF2-B74C-293156A5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2FD19-4C00-41D1-B34E-64F809E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2EE8A-5CC5-4359-A329-12B71CE7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18EC2-816D-4853-81EA-2E1BB31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C2685-E791-4F96-BF79-3E82137F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A25BD-5A38-4E47-BEB2-1552F9C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0787-7EE9-4938-9D96-3596E51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0DB7-0ED5-423F-9DCA-0E94B76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129E8-6410-4BB9-9D3B-5AAC254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ADF7C-009E-4406-B898-98645323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F1C24-34DB-467A-A2A0-BFB62B52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50391-1F81-4EFE-BC91-428810BB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6A2B2-4C89-4649-9D25-8023832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1218C-06F1-4F81-B2D5-5AC69E4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F0FE1-4C8A-4DBA-9602-6CAD2536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B2DE2-AD40-4FE7-B375-0F38EF71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85CAB-3E23-4714-A1D5-7984F72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3A156-CBE1-4A14-B6E8-2DBCB90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4DED-24AE-4A34-81AF-D26AAE6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08DCC-8817-4737-9959-CA9AE53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A0AB4-B6C3-4BA0-AAD0-5C7B67E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A5A35-03BC-4DFA-B544-598A497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1F964-FABE-4840-AE9F-ED28FD0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C8D56-EC62-41F8-A05E-13B625A2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97BD0-554E-4B2E-B469-CEA5FE99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D22E6-094F-4D9E-918A-4EBC49D3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08468-D920-46CB-9B1D-F62B2519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4C763-BF1D-4A44-8658-07CDCB6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66ED2-AB84-44F2-B021-0ADCA6F8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39F83-D2E3-4C1A-BE3B-F4A94FA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68E8-9DF3-4812-BFEF-F5215D9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0AB47-1CC1-43EC-9235-30C676C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0EFB9-31EF-40AC-92EA-B07D3D10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6C850-33AC-4B08-A426-8484967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398AB-4927-46C0-BED5-9DF878A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258D6-3340-4E53-B538-26399BB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CF6BD-9317-495F-9F8D-160D1EC9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9A3FB-BD8C-4788-8D18-35CF1CD8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D0CC1-7FDA-44B9-9A57-62ACFCAA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D168E-6211-44EE-962D-4D211CC1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17A54-8E9C-4EA7-B721-73E010E3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CCBC-F605-4253-AB07-D64E217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E49EA-5D42-4DD3-8830-2294AFC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5031-7060-4662-A492-D5FDF36D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53391-111A-4785-A18A-EE3EC97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11595-14BE-4DE1-BD50-EB8DB3D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DDB3D-2FE5-4B3F-A1EF-B2DC913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3D7FF-087A-44F0-B86B-DC0924F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DC47C-5C57-48B9-BD3B-42789809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37757-1C42-4D20-A94C-2EBD2EF8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4A11C-1FE1-4769-A3D9-2DB278F3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D958B-AF73-4673-8CEF-20BFCBF8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66E1-39A0-4F77-8A85-3893752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6DB15-6A14-494B-998D-E631D05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E78D1-962B-4AD0-B353-21C0ED7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D48A1-7253-42D6-8E68-46A3EB3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32BD2-2403-4983-B86E-DD80F92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CB5C1-CEE8-4C80-8E1C-48AE6AE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7FC07-9F10-4F93-947A-DB5DD99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F8155-8004-4641-9AC2-5276509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D634A-C9D3-4442-85EA-4CCD109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93785-0A33-480E-8497-D4ADF42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B5B03-476C-4FF7-A0D0-12A2F965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713CD-E4D8-45BA-8A3F-1C027F11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7B808-68A8-4D7B-BEF1-3213BB89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CA242-EB38-441B-AFFF-2AA6E72A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EBE1C-C8DC-4A67-AEFB-9691FD2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131B8-8292-4693-9AC8-8F91A0B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4558B-4E32-497D-AC8A-CA489CE3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361B4-6CFC-42A0-913A-E55F81F5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A4059-FA16-44B4-B762-D1F134D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DB76E-417A-41C2-9DAE-3AA778B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2F3D8-7587-4685-9479-8DB23BC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232A4-E467-41D9-8FC7-DADBCE2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A5F72-D5D0-43E4-A86D-50F2F914E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0B082-451E-421A-B233-6D9B35F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46D1F-74C0-4186-AE5E-8D3997C0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A1FA7-8D46-4826-9E47-26F39C25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859C5-40D7-4C40-BB68-098E72F0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C4048-D329-4397-9154-618594C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7562B-9E81-463A-AB56-615E113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8669C-466F-4E6E-B410-3B4DACC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00567-7CBA-48CD-ADBC-D78F3B3D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989B3-58C0-45A8-8C78-9B0EC9B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5C0F2-0EB4-496D-8A7E-788D7D4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E710A-92EC-4BE5-80F3-75420BA0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59BFA-BAB6-45C2-AF12-5F2731D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959D2-BE76-4F23-89E3-EF830C7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29357-C162-47EE-8CEF-5900D6D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09ADE-B584-4AF0-9B03-7CF5EDF6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834AF-094A-403E-988C-C32E68E3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8E59F-63D1-46BA-9BA1-C2C5F022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787F7-C971-48B3-B0DF-7B9EA87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7F47D-F5C8-4786-9FAB-DFE8A9A3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C2D62-F314-4244-90A8-5F3DEE8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14F89-3376-4248-BA43-3D554C0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D30CB-AD94-408A-9AB3-D1622F95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1915A-27A1-4FD0-9F65-A578AEF1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82C0E-F92E-4970-952C-64C07FF2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2890E-E932-47C0-BF16-E047B1D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00BFC-7FC7-4B35-8038-EA7578F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F8076-E825-4FB0-9BE1-D502987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95767-F245-4AE5-8EDF-4E8CE142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3654B-CE28-4400-A9C1-A859C427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1D9B4-D8A5-4D51-8137-7F3E1F1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E4D17-DED7-44F2-8037-9754CD0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43F4D-DC7F-4AC2-952F-54A927DC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C0119-5029-41DA-AED1-23194E1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9C876-2105-47FD-8C60-857EDF1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999C3-90A9-4708-97FB-39A6954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046AC-0007-4B65-8D8E-DDD6CD7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9C04F-1FDE-4053-B88D-E691920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1B4DC-8693-46C4-AEBE-5E64D64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AD8E3-22C0-4DE4-A837-CA18D5C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CC5A6-8AC8-4540-BE32-662EED6D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EDE48-6C9C-4813-9156-CB1DBB25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0CF6C-E047-422C-994B-F1FD29AA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35B72-0C1C-4664-8CA9-F683BE27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492D-4C1C-44FA-8DFE-BC93B043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73326-BABD-4EFC-97B7-91AFAAF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70BAC-5B85-4512-837F-9804635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46E23-7D88-4EB9-8C86-F32AA8D5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0C0D1-A16C-4800-B007-44FBEC1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AF3F3-7AEE-4DFD-8247-3443A77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8A726-BFEF-4E28-BC68-9D6100E1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10EFD-A44A-4477-A8D3-F8E3F5C7D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363A-62C6-4DA7-8EC8-ED084016F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EB9B-8059-48FD-A39E-74C5D42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C146-1A58-4E64-B568-C3660A93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1AD3-1003-4C8F-AAB3-52AE1A7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B465-1802-4785-A9A8-E23A2FD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EDC7-AD24-4109-9D04-5AF79C36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89EF-46BF-4EB6-8320-CC95ED23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9CD0-2CCB-4A0A-9B73-41CC6B0E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EBF4-3967-4A14-8A59-DEE4E51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B391-7D43-4A95-87D6-6BE9B9CD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D699-413B-4559-85F6-0855800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DD39-3B54-4787-BC9E-778DE32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8148-9DFE-4280-974B-274D2FD86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9D4CD-6D2F-4676-81D4-F26BD647F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1DA6-2E1F-4C05-B6B9-07DC71B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69B4B-B7B5-4D65-9CBE-E974E00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5DA48-8257-4D56-BABF-C78D8F5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D8980-6E33-41B5-9970-2E7F803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F02C2-8DA2-4588-8516-BF1748F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C701B-20B6-499D-946D-5385B675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F376D-99E7-49DB-BC06-AE169AD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F7A65-532C-4F9F-B04C-C92A0C5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73815-5966-4CEF-84A8-F0F36FE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8FB4C-F510-4499-861E-77FC018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9B94C-9F53-4EBC-B851-B78302B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E67E-52E3-44BD-B782-D7B1F7A2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1046D-3B99-4CF0-A04A-494C432A0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561613-AE00-4A46-9DB2-7FE717C9B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CC742-6894-4CC9-9A9A-32BE667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94945-A121-4F51-A865-C02CFD45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548FF-2AC7-4FFE-A3E3-582E219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1B35E-036B-464D-BB45-326757C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B33CBC-2465-4BBB-AA72-246CBE4B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838DA-BB27-401B-A4C9-95A9C57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54C6B-B22C-4473-B330-09ABD027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E9F64-EE16-4CF9-BD3D-64D9940E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E60B-C0B6-4513-92E3-91E13110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4BD26-02EA-4C0B-9EB0-4A07F3A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415E9-79C7-4DF9-B1A2-C124847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09C4A-B2A0-4815-B32F-4BDA891D2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3ED2-79E2-48EA-A3E0-B6D790AB1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5AEE-C96A-4FAD-881F-6088DBBB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2F0B-7B58-4040-9E1C-93D239E5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B774E-80A8-48E7-92CC-BCDFEB5A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7D75-64BB-4A2C-B103-ACFCD3FA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67E3-CD55-4290-B6E6-12FDF87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3347-9DF8-4612-B2FE-DC366EB4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BE8C-46B7-4C71-B553-E603E339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CD69-AFC3-4598-B5E9-EB6A061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A412-94C7-4992-A7F0-A2D052F4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A0FC-BE45-481D-9BA2-E029990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513A-73E1-4EC6-8BC1-76C835D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9321-D519-4D99-A1FA-B08BD1202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E531A-8CF9-4871-8EAB-B9DD75E1D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4E960-3FEE-438B-9708-362FAEC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CF3BC-0935-4272-B412-C00C41D6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25FFC-5FFF-4654-A33E-DEC3729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EC203-C38F-4AE8-A766-2B22C078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E221-AAD7-46AF-8842-8DB545EC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E9894-C030-48B2-9E49-4F4607EC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8A511-2F75-4881-9B0A-ECC96FE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B5880-90BE-4A9C-91A8-0359F475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5A81D-9C2A-4367-826B-6A3442D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92036-CBFB-4EFF-9D9C-D827B63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0CD0B-A9AE-4080-A446-80B0111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8D4C6-0254-4406-8167-9C946D764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53B09E-1A06-4D8C-9378-4BCDF72D5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FAE99-DB9E-4939-A76B-BB91534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205AF-825E-4BE4-96EC-78734E9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A59-5837-4095-A19E-2860C87F8D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573-0060-4BAE-9E91-5A08A0EC14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FE9B-5713-4DBA-B7D4-6416D8482E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69FC-E9AE-4C17-8DC4-D06571D2EF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B2D6-3010-4A19-8625-613CB5CDD2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E94-9BCD-4299-9CF9-DE3F72DF97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4ACD-FC8E-436C-B263-650A1606B0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D4A-6D2B-4958-B780-013D09BB19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1E4-D49C-461D-AE96-6E4D43EFDF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EE78-61C1-4028-BD75-8818EEC87E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807-AC41-45C5-A3BF-F8B5F24F02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2211-079E-4C0C-A1C3-90B9436997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53C0-017C-4261-893A-54A7E86C08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124-6E4D-4142-BDD4-CF31C71F62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EBAD-83C0-4074-8BD7-9D310A4D68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58E-D5EF-470B-8C24-190FF907EF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F77-7935-4341-A7DB-1EEF81CCA0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B6D8-87A4-40DE-9303-68B6547B19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4491-DB92-40F0-986C-14B08EA893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EE1-0C10-482F-BB3D-BBC468B548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685-BABC-40A1-A426-48A2B0C0CB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DBC-F76D-42A4-A369-4C5392165B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F4D-51B3-4601-8CF6-C11D0B6DBC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331E-1F14-44B5-B7AB-48E4A424E8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350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是 一 位 数 的 除 法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528480" y="96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71424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4=            15×6=            25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×5=            15×8=            25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714240" y="2571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笔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8÷24=                       245÷4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714240" y="5429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在试商中，当商大了或小了时，要用调商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方法，找到合适的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36"/>
          <p:cNvSpPr/>
          <p:nvPr/>
        </p:nvSpPr>
        <p:spPr>
          <a:xfrm>
            <a:off x="2311560" y="3162240"/>
            <a:ext cx="1357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7"/>
          <p:cNvSpPr/>
          <p:nvPr/>
        </p:nvSpPr>
        <p:spPr>
          <a:xfrm>
            <a:off x="5626080" y="3151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8"/>
          <p:cNvSpPr/>
          <p:nvPr/>
        </p:nvSpPr>
        <p:spPr>
          <a:xfrm>
            <a:off x="203832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39"/>
          <p:cNvSpPr/>
          <p:nvPr/>
        </p:nvSpPr>
        <p:spPr>
          <a:xfrm>
            <a:off x="2022480" y="2008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40"/>
          <p:cNvSpPr/>
          <p:nvPr/>
        </p:nvSpPr>
        <p:spPr>
          <a:xfrm>
            <a:off x="414324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4110120" y="20034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42"/>
          <p:cNvSpPr/>
          <p:nvPr/>
        </p:nvSpPr>
        <p:spPr>
          <a:xfrm>
            <a:off x="6215040" y="15001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43"/>
          <p:cNvSpPr/>
          <p:nvPr/>
        </p:nvSpPr>
        <p:spPr>
          <a:xfrm>
            <a:off x="6215040" y="19782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35"/>
          <p:cNvGrpSpPr/>
          <p:nvPr/>
        </p:nvGrpSpPr>
        <p:grpSpPr>
          <a:xfrm>
            <a:off x="988920" y="3576600"/>
            <a:ext cx="1654200" cy="1281600"/>
            <a:chOff x="988920" y="3576600"/>
            <a:chExt cx="1654200" cy="1281600"/>
          </a:xfrm>
        </p:grpSpPr>
        <p:grpSp>
          <p:nvGrpSpPr>
            <p:cNvPr id="1022" name="组合 28"/>
            <p:cNvGrpSpPr/>
            <p:nvPr/>
          </p:nvGrpSpPr>
          <p:grpSpPr>
            <a:xfrm>
              <a:off x="988920" y="3576600"/>
              <a:ext cx="1654200" cy="1281600"/>
              <a:chOff x="988920" y="3576600"/>
              <a:chExt cx="1654200" cy="1281600"/>
            </a:xfrm>
          </p:grpSpPr>
          <p:sp>
            <p:nvSpPr>
              <p:cNvPr id="1023" name="TextBox 14"/>
              <p:cNvSpPr/>
              <p:nvPr/>
            </p:nvSpPr>
            <p:spPr>
              <a:xfrm>
                <a:off x="988920" y="357660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4  1  8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  6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组合 27"/>
              <p:cNvGrpSpPr/>
              <p:nvPr/>
            </p:nvGrpSpPr>
            <p:grpSpPr>
              <a:xfrm>
                <a:off x="1242360" y="3957120"/>
                <a:ext cx="1400760" cy="901080"/>
                <a:chOff x="1242360" y="3957120"/>
                <a:chExt cx="1400760" cy="90108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1271160" y="4857840"/>
                  <a:ext cx="1371960" cy="360"/>
                  <a:chOff x="1271160" y="4857840"/>
                  <a:chExt cx="1371960" cy="360"/>
                </a:xfrm>
              </p:grpSpPr>
              <p:sp>
                <p:nvSpPr>
                  <p:cNvPr id="1026" name="直接连接符 19"/>
                  <p:cNvSpPr/>
                  <p:nvPr/>
                </p:nvSpPr>
                <p:spPr>
                  <a:xfrm>
                    <a:off x="1271160" y="4857840"/>
                    <a:ext cx="1371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1271160" y="4857840"/>
                    <a:ext cx="13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1242360" y="3957120"/>
                  <a:ext cx="1371960" cy="360"/>
                  <a:chOff x="1242360" y="3957120"/>
                  <a:chExt cx="1371960" cy="360"/>
                </a:xfrm>
              </p:grpSpPr>
              <p:sp>
                <p:nvSpPr>
                  <p:cNvPr id="1029" name="直接连接符 26"/>
                  <p:cNvSpPr/>
                  <p:nvPr/>
                </p:nvSpPr>
                <p:spPr>
                  <a:xfrm>
                    <a:off x="1242360" y="3957120"/>
                    <a:ext cx="1371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 txBox="1"/>
                  <p:nvPr/>
                </p:nvSpPr>
                <p:spPr>
                  <a:xfrm>
                    <a:off x="1242360" y="3957120"/>
                    <a:ext cx="13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1" name="Text Box 18"/>
            <p:cNvSpPr/>
            <p:nvPr/>
          </p:nvSpPr>
          <p:spPr>
            <a:xfrm>
              <a:off x="1368360" y="3835080"/>
              <a:ext cx="5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文鼎CS书宋二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34"/>
          <p:cNvGrpSpPr/>
          <p:nvPr/>
        </p:nvGrpSpPr>
        <p:grpSpPr>
          <a:xfrm>
            <a:off x="4417920" y="3573360"/>
            <a:ext cx="1654200" cy="1200600"/>
            <a:chOff x="4417920" y="3573360"/>
            <a:chExt cx="1654200" cy="1200600"/>
          </a:xfrm>
        </p:grpSpPr>
        <p:grpSp>
          <p:nvGrpSpPr>
            <p:cNvPr id="1033" name="组合 29"/>
            <p:cNvGrpSpPr/>
            <p:nvPr/>
          </p:nvGrpSpPr>
          <p:grpSpPr>
            <a:xfrm>
              <a:off x="4417920" y="3573360"/>
              <a:ext cx="1654200" cy="1200600"/>
              <a:chOff x="4417920" y="3573360"/>
              <a:chExt cx="1654200" cy="1200600"/>
            </a:xfrm>
          </p:grpSpPr>
          <p:sp>
            <p:nvSpPr>
              <p:cNvPr id="1034" name="TextBox 30"/>
              <p:cNvSpPr/>
              <p:nvPr/>
            </p:nvSpPr>
            <p:spPr>
              <a:xfrm>
                <a:off x="4417920" y="357336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4 9  2  4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 4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组合 31"/>
              <p:cNvGrpSpPr/>
              <p:nvPr/>
            </p:nvGrpSpPr>
            <p:grpSpPr>
              <a:xfrm>
                <a:off x="4978080" y="3980160"/>
                <a:ext cx="1094040" cy="793800"/>
                <a:chOff x="4978080" y="3980160"/>
                <a:chExt cx="1094040" cy="79380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5000400" y="4773600"/>
                  <a:ext cx="1071720" cy="360"/>
                  <a:chOff x="5000400" y="4773600"/>
                  <a:chExt cx="1071720" cy="360"/>
                </a:xfrm>
              </p:grpSpPr>
              <p:sp>
                <p:nvSpPr>
                  <p:cNvPr id="1037" name="直接连接符 33"/>
                  <p:cNvSpPr/>
                  <p:nvPr/>
                </p:nvSpPr>
                <p:spPr>
                  <a:xfrm>
                    <a:off x="5000400" y="4773600"/>
                    <a:ext cx="10717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 txBox="1"/>
                  <p:nvPr/>
                </p:nvSpPr>
                <p:spPr>
                  <a:xfrm>
                    <a:off x="5000400" y="4773600"/>
                    <a:ext cx="1071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4978080" y="3980160"/>
                  <a:ext cx="1071720" cy="360"/>
                  <a:chOff x="4978080" y="3980160"/>
                  <a:chExt cx="1071720" cy="360"/>
                </a:xfrm>
              </p:grpSpPr>
              <p:sp>
                <p:nvSpPr>
                  <p:cNvPr id="1040" name="直接连接符 34"/>
                  <p:cNvSpPr/>
                  <p:nvPr/>
                </p:nvSpPr>
                <p:spPr>
                  <a:xfrm>
                    <a:off x="4978080" y="3980160"/>
                    <a:ext cx="10717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 txBox="1"/>
                  <p:nvPr/>
                </p:nvSpPr>
                <p:spPr>
                  <a:xfrm>
                    <a:off x="4978080" y="3980160"/>
                    <a:ext cx="1071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2" name="Text Box 18"/>
            <p:cNvSpPr/>
            <p:nvPr/>
          </p:nvSpPr>
          <p:spPr>
            <a:xfrm>
              <a:off x="4792680" y="3846240"/>
              <a:ext cx="5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文鼎CS书宋二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-22320" y="115920"/>
            <a:ext cx="3245040" cy="525600"/>
            <a:chOff x="-22320" y="115920"/>
            <a:chExt cx="3245040" cy="525600"/>
          </a:xfrm>
        </p:grpSpPr>
        <p:pic>
          <p:nvPicPr>
            <p:cNvPr id="104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28160" y="115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-22320" y="210960"/>
              <a:ext cx="430200" cy="273600"/>
              <a:chOff x="-22320" y="210960"/>
              <a:chExt cx="430200" cy="27360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20320" y="375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95840" y="338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20320" y="248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5840" y="225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2320" y="354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2320" y="326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2320" y="239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2320" y="210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4" name="TextBox 1"/>
          <p:cNvSpPr/>
          <p:nvPr/>
        </p:nvSpPr>
        <p:spPr>
          <a:xfrm>
            <a:off x="422280" y="12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"/>
          <p:cNvSpPr/>
          <p:nvPr/>
        </p:nvSpPr>
        <p:spPr>
          <a:xfrm>
            <a:off x="1143000" y="78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0÷26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组合 3"/>
          <p:cNvGrpSpPr/>
          <p:nvPr/>
        </p:nvGrpSpPr>
        <p:grpSpPr>
          <a:xfrm>
            <a:off x="3041640" y="2371680"/>
            <a:ext cx="1654200" cy="1309320"/>
            <a:chOff x="3041640" y="2371680"/>
            <a:chExt cx="1654200" cy="1309320"/>
          </a:xfrm>
        </p:grpSpPr>
        <p:sp>
          <p:nvSpPr>
            <p:cNvPr id="1057" name="TextBox 4"/>
            <p:cNvSpPr/>
            <p:nvPr/>
          </p:nvSpPr>
          <p:spPr>
            <a:xfrm>
              <a:off x="3041640" y="23716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6  2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0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组合 27"/>
            <p:cNvGrpSpPr/>
            <p:nvPr/>
          </p:nvGrpSpPr>
          <p:grpSpPr>
            <a:xfrm>
              <a:off x="3170520" y="2724480"/>
              <a:ext cx="1525320" cy="956520"/>
              <a:chOff x="3170520" y="2724480"/>
              <a:chExt cx="1525320" cy="956520"/>
            </a:xfrm>
          </p:grpSpPr>
          <p:sp>
            <p:nvSpPr>
              <p:cNvPr id="1059" name="弧形 6"/>
              <p:cNvSpPr/>
              <p:nvPr/>
            </p:nvSpPr>
            <p:spPr>
              <a:xfrm rot="1018800">
                <a:off x="3294720" y="27522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3624480" y="3571920"/>
                <a:ext cx="1071360" cy="360"/>
                <a:chOff x="3624480" y="3571920"/>
                <a:chExt cx="1071360" cy="360"/>
              </a:xfrm>
            </p:grpSpPr>
            <p:sp>
              <p:nvSpPr>
                <p:cNvPr id="1061" name="直接连接符 7"/>
                <p:cNvSpPr/>
                <p:nvPr/>
              </p:nvSpPr>
              <p:spPr>
                <a:xfrm>
                  <a:off x="3624480" y="35719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>
                  <a:off x="3624480" y="35719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3601800" y="2778480"/>
                <a:ext cx="1071360" cy="360"/>
                <a:chOff x="3601800" y="2778480"/>
                <a:chExt cx="1071360" cy="360"/>
              </a:xfrm>
            </p:grpSpPr>
            <p:sp>
              <p:nvSpPr>
                <p:cNvPr id="1064" name="直接连接符 8"/>
                <p:cNvSpPr/>
                <p:nvPr/>
              </p:nvSpPr>
              <p:spPr>
                <a:xfrm>
                  <a:off x="3601800" y="27784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 txBox="1"/>
                <p:nvPr/>
              </p:nvSpPr>
              <p:spPr>
                <a:xfrm>
                  <a:off x="3601800" y="27784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6" name="组合 30"/>
          <p:cNvGrpSpPr/>
          <p:nvPr/>
        </p:nvGrpSpPr>
        <p:grpSpPr>
          <a:xfrm>
            <a:off x="4071960" y="500040"/>
            <a:ext cx="4071960" cy="1343160"/>
            <a:chOff x="4071960" y="500040"/>
            <a:chExt cx="4071960" cy="1343160"/>
          </a:xfrm>
        </p:grpSpPr>
        <p:pic>
          <p:nvPicPr>
            <p:cNvPr id="1067" name="图片 11" descr="000.gif"/>
            <p:cNvPicPr/>
            <p:nvPr/>
          </p:nvPicPr>
          <p:blipFill>
            <a:blip r:embed="rId8"/>
            <a:stretch/>
          </p:blipFill>
          <p:spPr>
            <a:xfrm>
              <a:off x="7072560" y="500040"/>
              <a:ext cx="107136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TextBox 9"/>
            <p:cNvSpPr/>
            <p:nvPr/>
          </p:nvSpPr>
          <p:spPr>
            <a:xfrm>
              <a:off x="4071960" y="9288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怎样能很快想出商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标注 10"/>
            <p:cNvSpPr/>
            <p:nvPr/>
          </p:nvSpPr>
          <p:spPr>
            <a:xfrm>
              <a:off x="4143240" y="928800"/>
              <a:ext cx="2786040" cy="500040"/>
            </a:xfrm>
            <a:prstGeom prst="wedgeRoundRectCallout">
              <a:avLst>
                <a:gd name="adj1" fmla="val 57773"/>
                <a:gd name="adj2" fmla="val 154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Box 18"/>
          <p:cNvSpPr/>
          <p:nvPr/>
        </p:nvSpPr>
        <p:spPr>
          <a:xfrm>
            <a:off x="7365960" y="232236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圆角矩形 21"/>
          <p:cNvSpPr/>
          <p:nvPr/>
        </p:nvSpPr>
        <p:spPr>
          <a:xfrm>
            <a:off x="2722680" y="2228760"/>
            <a:ext cx="5643360" cy="3000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22"/>
          <p:cNvSpPr/>
          <p:nvPr/>
        </p:nvSpPr>
        <p:spPr>
          <a:xfrm>
            <a:off x="3340080" y="39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商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8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小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32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里面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有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00cc66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00cc66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4"/>
          <p:cNvSpPr/>
          <p:nvPr/>
        </p:nvSpPr>
        <p:spPr>
          <a:xfrm>
            <a:off x="7388280" y="4229280"/>
            <a:ext cx="3585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1"/>
          <p:cNvSpPr/>
          <p:nvPr/>
        </p:nvSpPr>
        <p:spPr>
          <a:xfrm>
            <a:off x="3038760" y="242892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2"/>
          <p:cNvSpPr/>
          <p:nvPr/>
        </p:nvSpPr>
        <p:spPr>
          <a:xfrm>
            <a:off x="6651720" y="3132000"/>
            <a:ext cx="142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 3 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37"/>
          <p:cNvGrpSpPr/>
          <p:nvPr/>
        </p:nvGrpSpPr>
        <p:grpSpPr>
          <a:xfrm>
            <a:off x="5162400" y="2371680"/>
            <a:ext cx="2560680" cy="2772000"/>
            <a:chOff x="5162400" y="2371680"/>
            <a:chExt cx="2560680" cy="2772000"/>
          </a:xfrm>
        </p:grpSpPr>
        <p:grpSp>
          <p:nvGrpSpPr>
            <p:cNvPr id="1077" name="组合 35"/>
            <p:cNvGrpSpPr/>
            <p:nvPr/>
          </p:nvGrpSpPr>
          <p:grpSpPr>
            <a:xfrm>
              <a:off x="5162400" y="2371680"/>
              <a:ext cx="2560680" cy="2772000"/>
              <a:chOff x="5162400" y="2371680"/>
              <a:chExt cx="2560680" cy="2772000"/>
            </a:xfrm>
          </p:grpSpPr>
          <p:grpSp>
            <p:nvGrpSpPr>
              <p:cNvPr id="1078" name="组合 34"/>
              <p:cNvGrpSpPr/>
              <p:nvPr/>
            </p:nvGrpSpPr>
            <p:grpSpPr>
              <a:xfrm>
                <a:off x="6068520" y="2371680"/>
                <a:ext cx="1654560" cy="1309320"/>
                <a:chOff x="6068520" y="2371680"/>
                <a:chExt cx="1654560" cy="1309320"/>
              </a:xfrm>
            </p:grpSpPr>
            <p:grpSp>
              <p:nvGrpSpPr>
                <p:cNvPr id="1079" name="组合 12"/>
                <p:cNvGrpSpPr/>
                <p:nvPr/>
              </p:nvGrpSpPr>
              <p:grpSpPr>
                <a:xfrm>
                  <a:off x="6068520" y="2371680"/>
                  <a:ext cx="1632240" cy="1309320"/>
                  <a:chOff x="6068520" y="2371680"/>
                  <a:chExt cx="1632240" cy="1309320"/>
                </a:xfrm>
              </p:grpSpPr>
              <p:sp>
                <p:nvSpPr>
                  <p:cNvPr id="1080" name="TextBox 13"/>
                  <p:cNvSpPr/>
                  <p:nvPr/>
                </p:nvSpPr>
                <p:spPr>
                  <a:xfrm>
                    <a:off x="6068520" y="2371680"/>
                    <a:ext cx="91476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</a:t>
                    </a:r>
                    <a:r>
                      <a:rPr b="0" lang="en-US" sz="2500" spc="-1" strike="noStrike">
                        <a:solidFill>
                          <a:srgbClr val="ff0000"/>
                        </a:solidFill>
                        <a:latin typeface="Arial"/>
                      </a:rPr>
                      <a:t> 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2 6  2  4  0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2500" spc="-1" strike="noStrike">
                        <a:solidFill>
                          <a:srgbClr val="ff0000"/>
                        </a:solidFill>
                        <a:latin typeface="Arial"/>
                      </a:rPr>
                      <a:t>  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1" name="组合 27"/>
                  <p:cNvGrpSpPr/>
                  <p:nvPr/>
                </p:nvGrpSpPr>
                <p:grpSpPr>
                  <a:xfrm>
                    <a:off x="6197400" y="2724480"/>
                    <a:ext cx="1503360" cy="956520"/>
                    <a:chOff x="6197400" y="2724480"/>
                    <a:chExt cx="1503360" cy="956520"/>
                  </a:xfrm>
                </p:grpSpPr>
                <p:sp>
                  <p:nvSpPr>
                    <p:cNvPr id="1082" name="弧形 15"/>
                    <p:cNvSpPr/>
                    <p:nvPr/>
                  </p:nvSpPr>
                  <p:spPr>
                    <a:xfrm rot="1018800">
                      <a:off x="6321600" y="2752200"/>
                      <a:ext cx="325080" cy="90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325123" h="900885">
                          <a:moveTo>
                            <a:pt x="162561" y="0"/>
                          </a:moveTo>
                          <a:cubicBezTo>
                            <a:pt x="252341" y="0"/>
                            <a:pt x="325122" y="201670"/>
                            <a:pt x="325122" y="450442"/>
                          </a:cubicBezTo>
                          <a:lnTo>
                            <a:pt x="162561" y="450442"/>
                          </a:lnTo>
                          <a:close/>
                        </a:path>
                        <a:path fill="none" w="325123" h="900885">
                          <a:moveTo>
                            <a:pt x="162561" y="0"/>
                          </a:moveTo>
                          <a:cubicBezTo>
                            <a:pt x="252341" y="0"/>
                            <a:pt x="325122" y="201670"/>
                            <a:pt x="325122" y="45044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6628680" y="2778480"/>
                      <a:ext cx="1072080" cy="360"/>
                      <a:chOff x="6628680" y="2778480"/>
                      <a:chExt cx="1072080" cy="360"/>
                    </a:xfrm>
                  </p:grpSpPr>
                  <p:sp>
                    <p:nvSpPr>
                      <p:cNvPr id="1084" name="直接连接符 17"/>
                      <p:cNvSpPr/>
                      <p:nvPr/>
                    </p:nvSpPr>
                    <p:spPr>
                      <a:xfrm>
                        <a:off x="6628680" y="2778480"/>
                        <a:ext cx="10720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5" name=""/>
                      <p:cNvSpPr txBox="1"/>
                      <p:nvPr/>
                    </p:nvSpPr>
                    <p:spPr>
                      <a:xfrm>
                        <a:off x="6628680" y="2778480"/>
                        <a:ext cx="107208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86" name="矩形 19"/>
                <p:cNvSpPr/>
                <p:nvPr/>
              </p:nvSpPr>
              <p:spPr>
                <a:xfrm>
                  <a:off x="7365960" y="2371680"/>
                  <a:ext cx="357120" cy="3571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右箭头 20"/>
              <p:cNvSpPr/>
              <p:nvPr/>
            </p:nvSpPr>
            <p:spPr>
              <a:xfrm>
                <a:off x="5162400" y="3014640"/>
                <a:ext cx="642960" cy="214200"/>
              </a:xfrm>
              <a:prstGeom prst="rightArrow">
                <a:avLst>
                  <a:gd name="adj1" fmla="val 50000"/>
                  <a:gd name="adj2" fmla="val 50028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TextBox 23"/>
              <p:cNvSpPr/>
              <p:nvPr/>
            </p:nvSpPr>
            <p:spPr>
              <a:xfrm>
                <a:off x="6282720" y="422928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cc66"/>
                    </a:solidFill>
                    <a:latin typeface="方正楷体简体"/>
                    <a:ea typeface="方正楷体简体"/>
                  </a:rPr>
                  <a:t>改商（ </a:t>
                </a:r>
                <a:r>
                  <a:rPr b="0" lang="zh-CN" sz="2500" spc="-1" strike="noStrike">
                    <a:solidFill>
                      <a:srgbClr val="ff0000"/>
                    </a:solidFill>
                    <a:latin typeface="方正楷体简体"/>
                    <a:ea typeface="方正楷体简体"/>
                  </a:rPr>
                  <a:t>  </a:t>
                </a:r>
                <a:r>
                  <a:rPr b="0" lang="zh-CN" sz="2500" spc="-1" strike="noStrike">
                    <a:solidFill>
                      <a:srgbClr val="00cc66"/>
                    </a:solidFill>
                    <a:latin typeface="方正楷体简体"/>
                    <a:ea typeface="方正楷体简体"/>
                  </a:rPr>
                  <a:t>）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6651360" y="3571920"/>
              <a:ext cx="1071720" cy="360"/>
              <a:chOff x="6651360" y="3571920"/>
              <a:chExt cx="1071720" cy="360"/>
            </a:xfrm>
          </p:grpSpPr>
          <p:sp>
            <p:nvSpPr>
              <p:cNvPr id="1090" name="直接连接符 33"/>
              <p:cNvSpPr/>
              <p:nvPr/>
            </p:nvSpPr>
            <p:spPr>
              <a:xfrm>
                <a:off x="6651360" y="3571920"/>
                <a:ext cx="10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6651360" y="357192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2" name="TextBox 36"/>
          <p:cNvSpPr/>
          <p:nvPr/>
        </p:nvSpPr>
        <p:spPr>
          <a:xfrm>
            <a:off x="2813040" y="7794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29"/>
          <p:cNvGrpSpPr/>
          <p:nvPr/>
        </p:nvGrpSpPr>
        <p:grpSpPr>
          <a:xfrm>
            <a:off x="428760" y="2928960"/>
            <a:ext cx="2071440" cy="2120760"/>
            <a:chOff x="428760" y="2928960"/>
            <a:chExt cx="2071440" cy="2120760"/>
          </a:xfrm>
        </p:grpSpPr>
        <p:pic>
          <p:nvPicPr>
            <p:cNvPr id="1094" name="图片 28" descr="0.gif"/>
            <p:cNvPicPr/>
            <p:nvPr/>
          </p:nvPicPr>
          <p:blipFill>
            <a:blip r:embed="rId9"/>
            <a:stretch/>
          </p:blipFill>
          <p:spPr>
            <a:xfrm>
              <a:off x="500040" y="4000320"/>
              <a:ext cx="9997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27"/>
            <p:cNvGrpSpPr/>
            <p:nvPr/>
          </p:nvGrpSpPr>
          <p:grpSpPr>
            <a:xfrm>
              <a:off x="428760" y="2928960"/>
              <a:ext cx="2071440" cy="1000080"/>
              <a:chOff x="428760" y="2928960"/>
              <a:chExt cx="2071440" cy="1000080"/>
            </a:xfrm>
          </p:grpSpPr>
          <p:sp>
            <p:nvSpPr>
              <p:cNvPr id="1096" name="TextBox 25"/>
              <p:cNvSpPr/>
              <p:nvPr/>
            </p:nvSpPr>
            <p:spPr>
              <a:xfrm>
                <a:off x="571320" y="3000240"/>
                <a:ext cx="9140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把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看作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3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来试商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标注 26"/>
              <p:cNvSpPr/>
              <p:nvPr/>
            </p:nvSpPr>
            <p:spPr>
              <a:xfrm>
                <a:off x="428760" y="2928960"/>
                <a:ext cx="2071440" cy="1000080"/>
              </a:xfrm>
              <a:prstGeom prst="wedgeRoundRectCallout">
                <a:avLst>
                  <a:gd name="adj1" fmla="val 703"/>
                  <a:gd name="adj2" fmla="val 73550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八边形 7"/>
          <p:cNvSpPr/>
          <p:nvPr/>
        </p:nvSpPr>
        <p:spPr>
          <a:xfrm>
            <a:off x="385920" y="7794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39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291960" y="3784680"/>
            <a:ext cx="682920" cy="8287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37"/>
          <p:cNvSpPr/>
          <p:nvPr/>
        </p:nvSpPr>
        <p:spPr>
          <a:xfrm>
            <a:off x="939960" y="3164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看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试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圆角矩形标注 38"/>
          <p:cNvSpPr/>
          <p:nvPr/>
        </p:nvSpPr>
        <p:spPr>
          <a:xfrm>
            <a:off x="984240" y="3141720"/>
            <a:ext cx="2087640" cy="857160"/>
          </a:xfrm>
          <a:prstGeom prst="wedgeRoundRectCallout">
            <a:avLst>
              <a:gd name="adj1" fmla="val -42810"/>
              <a:gd name="adj2" fmla="val 69833"/>
              <a:gd name="adj3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44"/>
          <p:cNvGrpSpPr/>
          <p:nvPr/>
        </p:nvGrpSpPr>
        <p:grpSpPr>
          <a:xfrm>
            <a:off x="6151680" y="2124000"/>
            <a:ext cx="2355840" cy="1114560"/>
            <a:chOff x="6151680" y="2124000"/>
            <a:chExt cx="2355840" cy="1114560"/>
          </a:xfrm>
        </p:grpSpPr>
        <p:pic>
          <p:nvPicPr>
            <p:cNvPr id="1103" name="图片 43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755480" y="2409840"/>
              <a:ext cx="752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TextBox 41"/>
            <p:cNvSpPr/>
            <p:nvPr/>
          </p:nvSpPr>
          <p:spPr>
            <a:xfrm>
              <a:off x="6151680" y="2146320"/>
              <a:ext cx="9147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可以商几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圆角矩形标注 42"/>
            <p:cNvSpPr/>
            <p:nvPr/>
          </p:nvSpPr>
          <p:spPr>
            <a:xfrm>
              <a:off x="6196680" y="2124000"/>
              <a:ext cx="1572480" cy="500040"/>
            </a:xfrm>
            <a:prstGeom prst="wedgeRoundRectCallout">
              <a:avLst>
                <a:gd name="adj1" fmla="val 45537"/>
                <a:gd name="adj2" fmla="val 85638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组合 18"/>
          <p:cNvGrpSpPr/>
          <p:nvPr/>
        </p:nvGrpSpPr>
        <p:grpSpPr>
          <a:xfrm>
            <a:off x="4572000" y="907920"/>
            <a:ext cx="3929040" cy="1214640"/>
            <a:chOff x="4572000" y="907920"/>
            <a:chExt cx="3929040" cy="1214640"/>
          </a:xfrm>
        </p:grpSpPr>
        <p:pic>
          <p:nvPicPr>
            <p:cNvPr id="1107" name="图片 16" descr="00.gif"/>
            <p:cNvPicPr/>
            <p:nvPr/>
          </p:nvPicPr>
          <p:blipFill>
            <a:blip r:embed="rId3"/>
            <a:stretch/>
          </p:blipFill>
          <p:spPr>
            <a:xfrm>
              <a:off x="7358040" y="907920"/>
              <a:ext cx="1143000" cy="119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13"/>
            <p:cNvGrpSpPr/>
            <p:nvPr/>
          </p:nvGrpSpPr>
          <p:grpSpPr>
            <a:xfrm>
              <a:off x="4572000" y="1207800"/>
              <a:ext cx="2571840" cy="914760"/>
              <a:chOff x="4572000" y="1207800"/>
              <a:chExt cx="2571840" cy="914760"/>
            </a:xfrm>
          </p:grpSpPr>
          <p:sp>
            <p:nvSpPr>
              <p:cNvPr id="1109" name="TextBox 11"/>
              <p:cNvSpPr/>
              <p:nvPr/>
            </p:nvSpPr>
            <p:spPr>
              <a:xfrm>
                <a:off x="4572000" y="1207800"/>
                <a:ext cx="9144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想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10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个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是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60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标注 12"/>
              <p:cNvSpPr/>
              <p:nvPr/>
            </p:nvSpPr>
            <p:spPr>
              <a:xfrm>
                <a:off x="4572000" y="1207800"/>
                <a:ext cx="2571840" cy="500400"/>
              </a:xfrm>
              <a:prstGeom prst="wedgeRoundRectCallout">
                <a:avLst>
                  <a:gd name="adj1" fmla="val 58175"/>
                  <a:gd name="adj2" fmla="val -2967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TextBox 14"/>
          <p:cNvSpPr/>
          <p:nvPr/>
        </p:nvSpPr>
        <p:spPr>
          <a:xfrm>
            <a:off x="1071720" y="1622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6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6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4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多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可以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17"/>
          <p:cNvGrpSpPr/>
          <p:nvPr/>
        </p:nvGrpSpPr>
        <p:grpSpPr>
          <a:xfrm>
            <a:off x="939960" y="614520"/>
            <a:ext cx="3224160" cy="2017440"/>
            <a:chOff x="939960" y="614520"/>
            <a:chExt cx="3224160" cy="2017440"/>
          </a:xfrm>
        </p:grpSpPr>
        <p:grpSp>
          <p:nvGrpSpPr>
            <p:cNvPr id="1113" name="组合 12"/>
            <p:cNvGrpSpPr/>
            <p:nvPr/>
          </p:nvGrpSpPr>
          <p:grpSpPr>
            <a:xfrm>
              <a:off x="1581840" y="729720"/>
              <a:ext cx="1600920" cy="1064880"/>
              <a:chOff x="1581840" y="729720"/>
              <a:chExt cx="1600920" cy="1064880"/>
            </a:xfrm>
          </p:grpSpPr>
          <p:sp>
            <p:nvSpPr>
              <p:cNvPr id="1114" name="TextBox 7"/>
              <p:cNvSpPr/>
              <p:nvPr/>
            </p:nvSpPr>
            <p:spPr>
              <a:xfrm>
                <a:off x="1581840" y="729720"/>
                <a:ext cx="897120" cy="7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9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6  2  4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组合 27"/>
              <p:cNvGrpSpPr/>
              <p:nvPr/>
            </p:nvGrpSpPr>
            <p:grpSpPr>
              <a:xfrm>
                <a:off x="1730880" y="1006200"/>
                <a:ext cx="1451880" cy="788400"/>
                <a:chOff x="1730880" y="1006200"/>
                <a:chExt cx="1451880" cy="788400"/>
              </a:xfrm>
            </p:grpSpPr>
            <p:sp>
              <p:nvSpPr>
                <p:cNvPr id="1116" name="弧形 9"/>
                <p:cNvSpPr/>
                <p:nvPr/>
              </p:nvSpPr>
              <p:spPr>
                <a:xfrm rot="1018800">
                  <a:off x="1829880" y="1036800"/>
                  <a:ext cx="318960" cy="72684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2131200" y="1073160"/>
                  <a:ext cx="1051560" cy="360"/>
                  <a:chOff x="2131200" y="1073160"/>
                  <a:chExt cx="1051560" cy="360"/>
                </a:xfrm>
              </p:grpSpPr>
              <p:sp>
                <p:nvSpPr>
                  <p:cNvPr id="1118" name="直接连接符 10"/>
                  <p:cNvSpPr/>
                  <p:nvPr/>
                </p:nvSpPr>
                <p:spPr>
                  <a:xfrm>
                    <a:off x="2131200" y="1073160"/>
                    <a:ext cx="1051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 txBox="1"/>
                  <p:nvPr/>
                </p:nvSpPr>
                <p:spPr>
                  <a:xfrm>
                    <a:off x="2131200" y="1073160"/>
                    <a:ext cx="1051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0" name="圆角矩形 15"/>
            <p:cNvSpPr/>
            <p:nvPr/>
          </p:nvSpPr>
          <p:spPr>
            <a:xfrm>
              <a:off x="939960" y="614520"/>
              <a:ext cx="3224160" cy="2017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矩形 25"/>
          <p:cNvSpPr/>
          <p:nvPr/>
        </p:nvSpPr>
        <p:spPr>
          <a:xfrm>
            <a:off x="4071600" y="312732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33"/>
          <p:cNvSpPr/>
          <p:nvPr/>
        </p:nvSpPr>
        <p:spPr>
          <a:xfrm>
            <a:off x="4681440" y="3857760"/>
            <a:ext cx="14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 3 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40"/>
          <p:cNvSpPr/>
          <p:nvPr/>
        </p:nvSpPr>
        <p:spPr>
          <a:xfrm>
            <a:off x="3681360" y="4548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0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8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0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余下的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40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里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有（     ）个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5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47"/>
          <p:cNvGrpSpPr/>
          <p:nvPr/>
        </p:nvGrpSpPr>
        <p:grpSpPr>
          <a:xfrm>
            <a:off x="3557520" y="2930400"/>
            <a:ext cx="3500640" cy="2928960"/>
            <a:chOff x="3557520" y="2930400"/>
            <a:chExt cx="3500640" cy="2928960"/>
          </a:xfrm>
        </p:grpSpPr>
        <p:grpSp>
          <p:nvGrpSpPr>
            <p:cNvPr id="1125" name=""/>
            <p:cNvGrpSpPr/>
            <p:nvPr/>
          </p:nvGrpSpPr>
          <p:grpSpPr>
            <a:xfrm>
              <a:off x="4689360" y="4288320"/>
              <a:ext cx="1071720" cy="360"/>
              <a:chOff x="4689360" y="4288320"/>
              <a:chExt cx="1071720" cy="360"/>
            </a:xfrm>
          </p:grpSpPr>
          <p:sp>
            <p:nvSpPr>
              <p:cNvPr id="1126" name="直接连接符 34"/>
              <p:cNvSpPr/>
              <p:nvPr/>
            </p:nvSpPr>
            <p:spPr>
              <a:xfrm>
                <a:off x="4689360" y="4288320"/>
                <a:ext cx="10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4689360" y="428832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组合 46"/>
            <p:cNvGrpSpPr/>
            <p:nvPr/>
          </p:nvGrpSpPr>
          <p:grpSpPr>
            <a:xfrm>
              <a:off x="3557520" y="2930400"/>
              <a:ext cx="3500640" cy="2928960"/>
              <a:chOff x="3557520" y="2930400"/>
              <a:chExt cx="3500640" cy="2928960"/>
            </a:xfrm>
          </p:grpSpPr>
          <p:grpSp>
            <p:nvGrpSpPr>
              <p:cNvPr id="1129" name="组合 26"/>
              <p:cNvGrpSpPr/>
              <p:nvPr/>
            </p:nvGrpSpPr>
            <p:grpSpPr>
              <a:xfrm>
                <a:off x="4106520" y="3107520"/>
                <a:ext cx="1631880" cy="1309320"/>
                <a:chOff x="4106520" y="3107520"/>
                <a:chExt cx="1631880" cy="1309320"/>
              </a:xfrm>
            </p:grpSpPr>
            <p:sp>
              <p:nvSpPr>
                <p:cNvPr id="1130" name="TextBox 27"/>
                <p:cNvSpPr/>
                <p:nvPr/>
              </p:nvSpPr>
              <p:spPr>
                <a:xfrm>
                  <a:off x="4106520" y="3107520"/>
                  <a:ext cx="9144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        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2 6  2  4  0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组合 27"/>
                <p:cNvGrpSpPr/>
                <p:nvPr/>
              </p:nvGrpSpPr>
              <p:grpSpPr>
                <a:xfrm>
                  <a:off x="4235400" y="3460320"/>
                  <a:ext cx="1503000" cy="956520"/>
                  <a:chOff x="4235400" y="3460320"/>
                  <a:chExt cx="1503000" cy="956520"/>
                </a:xfrm>
              </p:grpSpPr>
              <p:sp>
                <p:nvSpPr>
                  <p:cNvPr id="1132" name="弧形 29"/>
                  <p:cNvSpPr/>
                  <p:nvPr/>
                </p:nvSpPr>
                <p:spPr>
                  <a:xfrm rot="1018800">
                    <a:off x="4359600" y="3488040"/>
                    <a:ext cx="325080" cy="900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325123" h="900885">
                        <a:moveTo>
                          <a:pt x="162561" y="0"/>
                        </a:moveTo>
                        <a:cubicBezTo>
                          <a:pt x="252341" y="0"/>
                          <a:pt x="325122" y="201670"/>
                          <a:pt x="325122" y="450442"/>
                        </a:cubicBezTo>
                        <a:lnTo>
                          <a:pt x="162561" y="450442"/>
                        </a:lnTo>
                        <a:close/>
                      </a:path>
                      <a:path fill="none" w="325123" h="900885">
                        <a:moveTo>
                          <a:pt x="162561" y="0"/>
                        </a:moveTo>
                        <a:cubicBezTo>
                          <a:pt x="252341" y="0"/>
                          <a:pt x="325122" y="201670"/>
                          <a:pt x="325122" y="45044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4666680" y="3514320"/>
                    <a:ext cx="1071720" cy="360"/>
                    <a:chOff x="4666680" y="3514320"/>
                    <a:chExt cx="1071720" cy="360"/>
                  </a:xfrm>
                </p:grpSpPr>
                <p:sp>
                  <p:nvSpPr>
                    <p:cNvPr id="1134" name="直接连接符 31"/>
                    <p:cNvSpPr/>
                    <p:nvPr/>
                  </p:nvSpPr>
                  <p:spPr>
                    <a:xfrm>
                      <a:off x="4666680" y="3514320"/>
                      <a:ext cx="1071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 txBox="1"/>
                    <p:nvPr/>
                  </p:nvSpPr>
                  <p:spPr>
                    <a:xfrm>
                      <a:off x="4666680" y="3514320"/>
                      <a:ext cx="1071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36" name="矩形 35"/>
              <p:cNvSpPr/>
              <p:nvPr/>
            </p:nvSpPr>
            <p:spPr>
              <a:xfrm>
                <a:off x="5403600" y="3096360"/>
                <a:ext cx="357120" cy="357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45"/>
              <p:cNvSpPr/>
              <p:nvPr/>
            </p:nvSpPr>
            <p:spPr>
              <a:xfrm>
                <a:off x="3557520" y="2930400"/>
                <a:ext cx="3500640" cy="29289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395e8a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8" name="TextBox 48"/>
          <p:cNvSpPr/>
          <p:nvPr/>
        </p:nvSpPr>
        <p:spPr>
          <a:xfrm>
            <a:off x="5396040" y="304812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49"/>
          <p:cNvSpPr/>
          <p:nvPr/>
        </p:nvSpPr>
        <p:spPr>
          <a:xfrm>
            <a:off x="728640" y="5799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面这几种方法都对，哪种方法比较简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48"/>
          <p:cNvSpPr/>
          <p:nvPr/>
        </p:nvSpPr>
        <p:spPr>
          <a:xfrm>
            <a:off x="4446720" y="53276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76"/>
          <p:cNvGrpSpPr/>
          <p:nvPr/>
        </p:nvGrpSpPr>
        <p:grpSpPr>
          <a:xfrm>
            <a:off x="1071720" y="1137960"/>
            <a:ext cx="5072040" cy="2734920"/>
            <a:chOff x="1071720" y="1137960"/>
            <a:chExt cx="5072040" cy="2734920"/>
          </a:xfrm>
        </p:grpSpPr>
        <p:grpSp>
          <p:nvGrpSpPr>
            <p:cNvPr id="1142" name="组合 4"/>
            <p:cNvGrpSpPr/>
            <p:nvPr/>
          </p:nvGrpSpPr>
          <p:grpSpPr>
            <a:xfrm>
              <a:off x="1071720" y="1140840"/>
              <a:ext cx="1346040" cy="956880"/>
              <a:chOff x="1071720" y="1140840"/>
              <a:chExt cx="1346040" cy="956880"/>
            </a:xfrm>
          </p:grpSpPr>
          <p:sp>
            <p:nvSpPr>
              <p:cNvPr id="1143" name="TextBox 5"/>
              <p:cNvSpPr/>
              <p:nvPr/>
            </p:nvSpPr>
            <p:spPr>
              <a:xfrm>
                <a:off x="1071720" y="116640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1 6  9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4" name="组合 27"/>
              <p:cNvGrpSpPr/>
              <p:nvPr/>
            </p:nvGrpSpPr>
            <p:grpSpPr>
              <a:xfrm>
                <a:off x="1189080" y="1140840"/>
                <a:ext cx="1228680" cy="956880"/>
                <a:chOff x="1189080" y="1140840"/>
                <a:chExt cx="1228680" cy="956880"/>
              </a:xfrm>
            </p:grpSpPr>
            <p:sp>
              <p:nvSpPr>
                <p:cNvPr id="1145" name="弧形 7"/>
                <p:cNvSpPr/>
                <p:nvPr/>
              </p:nvSpPr>
              <p:spPr>
                <a:xfrm rot="1018800">
                  <a:off x="1313280" y="116856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6" name=""/>
                <p:cNvGrpSpPr/>
                <p:nvPr/>
              </p:nvGrpSpPr>
              <p:grpSpPr>
                <a:xfrm>
                  <a:off x="1620360" y="1194840"/>
                  <a:ext cx="797400" cy="360"/>
                  <a:chOff x="1620360" y="1194840"/>
                  <a:chExt cx="797400" cy="360"/>
                </a:xfrm>
              </p:grpSpPr>
              <p:sp>
                <p:nvSpPr>
                  <p:cNvPr id="1147" name="直接连接符 9"/>
                  <p:cNvSpPr/>
                  <p:nvPr/>
                </p:nvSpPr>
                <p:spPr>
                  <a:xfrm>
                    <a:off x="1620360" y="1194840"/>
                    <a:ext cx="797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 txBox="1"/>
                  <p:nvPr/>
                </p:nvSpPr>
                <p:spPr>
                  <a:xfrm>
                    <a:off x="1620360" y="1194840"/>
                    <a:ext cx="797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9" name="组合 32"/>
            <p:cNvGrpSpPr/>
            <p:nvPr/>
          </p:nvGrpSpPr>
          <p:grpSpPr>
            <a:xfrm>
              <a:off x="4463280" y="1137960"/>
              <a:ext cx="1654200" cy="956880"/>
              <a:chOff x="4463280" y="1137960"/>
              <a:chExt cx="1654200" cy="956880"/>
            </a:xfrm>
          </p:grpSpPr>
          <p:sp>
            <p:nvSpPr>
              <p:cNvPr id="1150" name="TextBox 33"/>
              <p:cNvSpPr/>
              <p:nvPr/>
            </p:nvSpPr>
            <p:spPr>
              <a:xfrm>
                <a:off x="4463280" y="11635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5  2  0  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组合 27"/>
              <p:cNvGrpSpPr/>
              <p:nvPr/>
            </p:nvGrpSpPr>
            <p:grpSpPr>
              <a:xfrm>
                <a:off x="4580640" y="1137960"/>
                <a:ext cx="1536840" cy="956880"/>
                <a:chOff x="4580640" y="1137960"/>
                <a:chExt cx="1536840" cy="956880"/>
              </a:xfrm>
            </p:grpSpPr>
            <p:sp>
              <p:nvSpPr>
                <p:cNvPr id="1152" name="弧形 35"/>
                <p:cNvSpPr/>
                <p:nvPr/>
              </p:nvSpPr>
              <p:spPr>
                <a:xfrm rot="1018800">
                  <a:off x="4704840" y="116568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3" name=""/>
                <p:cNvGrpSpPr/>
                <p:nvPr/>
              </p:nvGrpSpPr>
              <p:grpSpPr>
                <a:xfrm>
                  <a:off x="5011920" y="1191960"/>
                  <a:ext cx="1105560" cy="360"/>
                  <a:chOff x="5011920" y="1191960"/>
                  <a:chExt cx="1105560" cy="360"/>
                </a:xfrm>
              </p:grpSpPr>
              <p:sp>
                <p:nvSpPr>
                  <p:cNvPr id="1154" name="直接连接符 36"/>
                  <p:cNvSpPr/>
                  <p:nvPr/>
                </p:nvSpPr>
                <p:spPr>
                  <a:xfrm>
                    <a:off x="5011920" y="1191960"/>
                    <a:ext cx="110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 txBox="1"/>
                  <p:nvPr/>
                </p:nvSpPr>
                <p:spPr>
                  <a:xfrm>
                    <a:off x="5011920" y="1191960"/>
                    <a:ext cx="1105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6" name="组合 37"/>
            <p:cNvGrpSpPr/>
            <p:nvPr/>
          </p:nvGrpSpPr>
          <p:grpSpPr>
            <a:xfrm>
              <a:off x="1105560" y="2916000"/>
              <a:ext cx="1665720" cy="956880"/>
              <a:chOff x="1105560" y="2916000"/>
              <a:chExt cx="1665720" cy="956880"/>
            </a:xfrm>
          </p:grpSpPr>
          <p:sp>
            <p:nvSpPr>
              <p:cNvPr id="1157" name="TextBox 38"/>
              <p:cNvSpPr/>
              <p:nvPr/>
            </p:nvSpPr>
            <p:spPr>
              <a:xfrm>
                <a:off x="1105560" y="294156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6  1  0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组合 27"/>
              <p:cNvGrpSpPr/>
              <p:nvPr/>
            </p:nvGrpSpPr>
            <p:grpSpPr>
              <a:xfrm>
                <a:off x="1222920" y="2916000"/>
                <a:ext cx="1548360" cy="956880"/>
                <a:chOff x="1222920" y="2916000"/>
                <a:chExt cx="1548360" cy="956880"/>
              </a:xfrm>
            </p:grpSpPr>
            <p:sp>
              <p:nvSpPr>
                <p:cNvPr id="1159" name="弧形 40"/>
                <p:cNvSpPr/>
                <p:nvPr/>
              </p:nvSpPr>
              <p:spPr>
                <a:xfrm rot="1018800">
                  <a:off x="1347120" y="294372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"/>
                <p:cNvGrpSpPr/>
                <p:nvPr/>
              </p:nvGrpSpPr>
              <p:grpSpPr>
                <a:xfrm>
                  <a:off x="1654200" y="2970000"/>
                  <a:ext cx="1117080" cy="360"/>
                  <a:chOff x="1654200" y="2970000"/>
                  <a:chExt cx="1117080" cy="360"/>
                </a:xfrm>
              </p:grpSpPr>
              <p:sp>
                <p:nvSpPr>
                  <p:cNvPr id="1161" name="直接连接符 41"/>
                  <p:cNvSpPr/>
                  <p:nvPr/>
                </p:nvSpPr>
                <p:spPr>
                  <a:xfrm>
                    <a:off x="1654200" y="2970000"/>
                    <a:ext cx="111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 txBox="1"/>
                  <p:nvPr/>
                </p:nvSpPr>
                <p:spPr>
                  <a:xfrm>
                    <a:off x="1654200" y="2970000"/>
                    <a:ext cx="11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3" name="组合 42"/>
            <p:cNvGrpSpPr/>
            <p:nvPr/>
          </p:nvGrpSpPr>
          <p:grpSpPr>
            <a:xfrm>
              <a:off x="4466880" y="2912760"/>
              <a:ext cx="1676880" cy="956880"/>
              <a:chOff x="4466880" y="2912760"/>
              <a:chExt cx="1676880" cy="956880"/>
            </a:xfrm>
          </p:grpSpPr>
          <p:sp>
            <p:nvSpPr>
              <p:cNvPr id="1164" name="TextBox 43"/>
              <p:cNvSpPr/>
              <p:nvPr/>
            </p:nvSpPr>
            <p:spPr>
              <a:xfrm>
                <a:off x="4466880" y="29383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 4  1  8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组合 27"/>
              <p:cNvGrpSpPr/>
              <p:nvPr/>
            </p:nvGrpSpPr>
            <p:grpSpPr>
              <a:xfrm>
                <a:off x="4584240" y="2912760"/>
                <a:ext cx="1559520" cy="956880"/>
                <a:chOff x="4584240" y="2912760"/>
                <a:chExt cx="1559520" cy="956880"/>
              </a:xfrm>
            </p:grpSpPr>
            <p:sp>
              <p:nvSpPr>
                <p:cNvPr id="1166" name="弧形 45"/>
                <p:cNvSpPr/>
                <p:nvPr/>
              </p:nvSpPr>
              <p:spPr>
                <a:xfrm rot="1018800">
                  <a:off x="4708440" y="2940480"/>
                  <a:ext cx="325080" cy="901080"/>
                </a:xfrm>
                <a:custGeom>
                  <a:avLst/>
                  <a:gdLst/>
                  <a:ahLst/>
                  <a:rect l="l" t="t" r="r" b="b"/>
                  <a:pathLst>
                    <a:path stroke="0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  <a:lnTo>
                        <a:pt x="162561" y="450442"/>
                      </a:lnTo>
                      <a:close/>
                    </a:path>
                    <a:path fill="none" w="325123" h="900885">
                      <a:moveTo>
                        <a:pt x="162561" y="0"/>
                      </a:moveTo>
                      <a:cubicBezTo>
                        <a:pt x="252341" y="0"/>
                        <a:pt x="325122" y="201670"/>
                        <a:pt x="325122" y="45044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7" name=""/>
                <p:cNvGrpSpPr/>
                <p:nvPr/>
              </p:nvGrpSpPr>
              <p:grpSpPr>
                <a:xfrm>
                  <a:off x="5015520" y="2966760"/>
                  <a:ext cx="1128240" cy="360"/>
                  <a:chOff x="5015520" y="2966760"/>
                  <a:chExt cx="1128240" cy="360"/>
                </a:xfrm>
              </p:grpSpPr>
              <p:sp>
                <p:nvSpPr>
                  <p:cNvPr id="1168" name="直接连接符 46"/>
                  <p:cNvSpPr/>
                  <p:nvPr/>
                </p:nvSpPr>
                <p:spPr>
                  <a:xfrm>
                    <a:off x="5015520" y="2966760"/>
                    <a:ext cx="11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 txBox="1"/>
                  <p:nvPr/>
                </p:nvSpPr>
                <p:spPr>
                  <a:xfrm>
                    <a:off x="5015520" y="2966760"/>
                    <a:ext cx="1128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70" name="组合 77"/>
          <p:cNvGrpSpPr/>
          <p:nvPr/>
        </p:nvGrpSpPr>
        <p:grpSpPr>
          <a:xfrm>
            <a:off x="1515960" y="743040"/>
            <a:ext cx="917640" cy="1192320"/>
            <a:chOff x="1515960" y="743040"/>
            <a:chExt cx="917640" cy="1192320"/>
          </a:xfrm>
        </p:grpSpPr>
        <p:sp>
          <p:nvSpPr>
            <p:cNvPr id="1171" name="TextBox 51"/>
            <p:cNvSpPr/>
            <p:nvPr/>
          </p:nvSpPr>
          <p:spPr>
            <a:xfrm>
              <a:off x="1515960" y="74304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9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1685160" y="1935000"/>
              <a:ext cx="748440" cy="360"/>
              <a:chOff x="1685160" y="1935000"/>
              <a:chExt cx="748440" cy="360"/>
            </a:xfrm>
          </p:grpSpPr>
          <p:sp>
            <p:nvSpPr>
              <p:cNvPr id="1173" name="直接连接符 53"/>
              <p:cNvSpPr/>
              <p:nvPr/>
            </p:nvSpPr>
            <p:spPr>
              <a:xfrm>
                <a:off x="1685160" y="1935000"/>
                <a:ext cx="748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1685160" y="1935000"/>
                <a:ext cx="74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组合 78"/>
          <p:cNvGrpSpPr/>
          <p:nvPr/>
        </p:nvGrpSpPr>
        <p:grpSpPr>
          <a:xfrm>
            <a:off x="5033880" y="784080"/>
            <a:ext cx="1071720" cy="1192680"/>
            <a:chOff x="5033880" y="784080"/>
            <a:chExt cx="1071720" cy="1192680"/>
          </a:xfrm>
        </p:grpSpPr>
        <p:sp>
          <p:nvSpPr>
            <p:cNvPr id="1176" name="TextBox 57"/>
            <p:cNvSpPr/>
            <p:nvPr/>
          </p:nvSpPr>
          <p:spPr>
            <a:xfrm>
              <a:off x="5082480" y="784080"/>
              <a:ext cx="9147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5033880" y="1976400"/>
              <a:ext cx="1071720" cy="360"/>
              <a:chOff x="5033880" y="1976400"/>
              <a:chExt cx="1071720" cy="360"/>
            </a:xfrm>
          </p:grpSpPr>
          <p:sp>
            <p:nvSpPr>
              <p:cNvPr id="1178" name="直接连接符 58"/>
              <p:cNvSpPr/>
              <p:nvPr/>
            </p:nvSpPr>
            <p:spPr>
              <a:xfrm>
                <a:off x="5033880" y="1976400"/>
                <a:ext cx="1071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5033880" y="197640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79"/>
          <p:cNvGrpSpPr/>
          <p:nvPr/>
        </p:nvGrpSpPr>
        <p:grpSpPr>
          <a:xfrm>
            <a:off x="1698480" y="2554200"/>
            <a:ext cx="1073160" cy="1215000"/>
            <a:chOff x="1698480" y="2554200"/>
            <a:chExt cx="1073160" cy="1215000"/>
          </a:xfrm>
        </p:grpSpPr>
        <p:grpSp>
          <p:nvGrpSpPr>
            <p:cNvPr id="1181" name=""/>
            <p:cNvGrpSpPr/>
            <p:nvPr/>
          </p:nvGrpSpPr>
          <p:grpSpPr>
            <a:xfrm>
              <a:off x="1698480" y="3768840"/>
              <a:ext cx="1073160" cy="360"/>
              <a:chOff x="1698480" y="3768840"/>
              <a:chExt cx="1073160" cy="360"/>
            </a:xfrm>
          </p:grpSpPr>
          <p:sp>
            <p:nvSpPr>
              <p:cNvPr id="1182" name="直接连接符 67"/>
              <p:cNvSpPr/>
              <p:nvPr/>
            </p:nvSpPr>
            <p:spPr>
              <a:xfrm>
                <a:off x="1698480" y="3768840"/>
                <a:ext cx="107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1698480" y="3768840"/>
                <a:ext cx="107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TextBox 69"/>
            <p:cNvSpPr/>
            <p:nvPr/>
          </p:nvSpPr>
          <p:spPr>
            <a:xfrm>
              <a:off x="1743480" y="2554200"/>
              <a:ext cx="9158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80"/>
          <p:cNvGrpSpPr/>
          <p:nvPr/>
        </p:nvGrpSpPr>
        <p:grpSpPr>
          <a:xfrm>
            <a:off x="5068800" y="2554200"/>
            <a:ext cx="1074960" cy="1215000"/>
            <a:chOff x="5068800" y="2554200"/>
            <a:chExt cx="1074960" cy="1215000"/>
          </a:xfrm>
        </p:grpSpPr>
        <p:grpSp>
          <p:nvGrpSpPr>
            <p:cNvPr id="1186" name=""/>
            <p:cNvGrpSpPr/>
            <p:nvPr/>
          </p:nvGrpSpPr>
          <p:grpSpPr>
            <a:xfrm>
              <a:off x="5072400" y="3768840"/>
              <a:ext cx="1071360" cy="360"/>
              <a:chOff x="5072400" y="3768840"/>
              <a:chExt cx="1071360" cy="360"/>
            </a:xfrm>
          </p:grpSpPr>
          <p:sp>
            <p:nvSpPr>
              <p:cNvPr id="1187" name="直接连接符 68"/>
              <p:cNvSpPr/>
              <p:nvPr/>
            </p:nvSpPr>
            <p:spPr>
              <a:xfrm>
                <a:off x="5072400" y="3768840"/>
                <a:ext cx="1071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>
                <a:off x="5072400" y="3768840"/>
                <a:ext cx="1071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Box 70"/>
            <p:cNvSpPr/>
            <p:nvPr/>
          </p:nvSpPr>
          <p:spPr>
            <a:xfrm>
              <a:off x="5068800" y="255420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6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74"/>
          <p:cNvGrpSpPr/>
          <p:nvPr/>
        </p:nvGrpSpPr>
        <p:grpSpPr>
          <a:xfrm>
            <a:off x="2300400" y="3927600"/>
            <a:ext cx="5486400" cy="1143000"/>
            <a:chOff x="2300400" y="3927600"/>
            <a:chExt cx="5486400" cy="1143000"/>
          </a:xfrm>
        </p:grpSpPr>
        <p:pic>
          <p:nvPicPr>
            <p:cNvPr id="1191" name="图片 73" descr="33539.jpg"/>
            <p:cNvPicPr/>
            <p:nvPr/>
          </p:nvPicPr>
          <p:blipFill>
            <a:blip r:embed="rId1"/>
            <a:stretch/>
          </p:blipFill>
          <p:spPr>
            <a:xfrm>
              <a:off x="7015680" y="3927600"/>
              <a:ext cx="7711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TextBox 71"/>
            <p:cNvSpPr/>
            <p:nvPr/>
          </p:nvSpPr>
          <p:spPr>
            <a:xfrm>
              <a:off x="2300400" y="4266000"/>
              <a:ext cx="4500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你试商的过程说给同学听听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标注 72"/>
            <p:cNvSpPr/>
            <p:nvPr/>
          </p:nvSpPr>
          <p:spPr>
            <a:xfrm>
              <a:off x="2300400" y="4266000"/>
              <a:ext cx="4500720" cy="500040"/>
            </a:xfrm>
            <a:prstGeom prst="wedgeRoundRectCallout">
              <a:avLst>
                <a:gd name="adj1" fmla="val 55166"/>
                <a:gd name="adj2" fmla="val 154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9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5" name="Rectangle 64"/>
          <p:cNvSpPr/>
          <p:nvPr/>
        </p:nvSpPr>
        <p:spPr>
          <a:xfrm>
            <a:off x="530280" y="220680"/>
            <a:ext cx="253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32"/>
          <p:cNvSpPr/>
          <p:nvPr/>
        </p:nvSpPr>
        <p:spPr>
          <a:xfrm>
            <a:off x="179280" y="112068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结：除数不接近整十的笔算除法，既可以按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试商，也可以把除数看作与它接近的几十五，再利用一位数乘法直接确定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2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0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2"/>
          <p:cNvSpPr/>
          <p:nvPr/>
        </p:nvSpPr>
        <p:spPr>
          <a:xfrm>
            <a:off x="425520" y="771480"/>
            <a:ext cx="86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白兔共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胡萝卜，它想每次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需要运几次才能运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3"/>
          <p:cNvSpPr/>
          <p:nvPr/>
        </p:nvSpPr>
        <p:spPr>
          <a:xfrm>
            <a:off x="1020600" y="1965240"/>
            <a:ext cx="72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5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5 = 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次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·····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+ 1 = 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需要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次才能运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8:54Z</dcterms:modified>
  <cp:revision>2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